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0A7-C438-47CE-B1D0-77AFBF65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CB5-2DE3-4D3A-8B7F-86D0A980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E79-7A13-43FC-80EE-8E394768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78CC-9818-4C7E-BEBC-50B65786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C2D-666E-4A0C-91E6-190489C9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366-23AA-4722-80F4-7CDFD611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16A5-B100-438C-93A7-4B76D22D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BD87-8CBC-449C-82BB-47AC5FF2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89F6-6328-4A43-8D87-AA02B871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81F-1C78-4EC8-BBD5-97A8765B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19C-7BE8-4AD6-A942-863DC2A7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DEA-AE7D-431A-A80E-EA74CDEE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BAF4-763D-49D4-A103-38810FDDC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4 Keby som nem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rahý Pane, t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by som nem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rahý Pane, t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 tvoju, v ktorej dal si mi sám seb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by som našiel hriechov odpuste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ykúpen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 srdce ne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prav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ho môžeš zmen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lého zbav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si moje útočište, ska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všetko stá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e chvál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ťa večne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ilosť, ktorá ku m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kríža v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ma svojou svät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ou obmy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mi doby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túžbu, Kr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a nasledo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ďakyplným srdcom oslavova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obeť tvoj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u nekonečn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spásu večnú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6:09:04Z</dcterms:modified>
  <cp:revision>20</cp:revision>
  <dc:subject/>
  <dc:title>Je veľký náš Pán, on slávy je Kráľ Nech do všetkých strán  spev vrúcnych znie chvál.</dc:title>
</cp:coreProperties>
</file>